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432-5E2E-451E-B8AD-6CD1418F002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ommunity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volve community to understand what is happening with the environment around the stre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4CA-3F8A-4298-B85B-AC5115AAABCC}" type="slidenum">
              <a:rPr b="0" lang="en-NZ" sz="1200" spc="-1" strike="noStrike">
                <a:solidFill>
                  <a:srgbClr val="bffcc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654-514A-4495-A70B-DF36240B200C}" type="slidenum">
              <a:rPr b="0" lang="en-NZ" sz="1200" spc="-1" strike="noStrike">
                <a:solidFill>
                  <a:srgbClr val="bffcc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15A-02EB-4AEA-8EE4-A9FB7877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040-E2DD-44F6-B84E-578A82C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5F8-B9AF-4A13-9F87-104536AA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DC0-ECB0-45AD-A4B2-DBAE90ED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31F-38AE-4D5A-B568-0342B34E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6CA2-4C31-4695-9B3D-58DC898D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B420-B501-4A60-A056-93C8699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474-185A-4EEF-B5A5-B4A6F3C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A0C-0CCE-4922-A72D-9B66E45A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82CA-1844-44E1-905B-3169841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5B2B-349A-4F04-BB2F-2CAD923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777-F84A-434A-914E-A3D96630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AC6E-AA53-4165-AD70-CAE4436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1951-9BD5-461E-8FD4-82ED0B5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45E-4FE7-4E58-8381-CDF68C4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D662-DA3A-4324-A44E-E24E510F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F4E-F669-4A96-9F0A-723370AA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E95-47B7-47EB-A226-EAA7CE5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5FD-955E-40C9-AE55-A9F276DB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9BF-1A90-4C96-84D3-F7D6DDF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B25-28E5-4A10-A16D-8EB165F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74F-E868-4148-81C9-B8B499E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552-834D-469F-AD60-A44D4DD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B54-463D-49A1-8E24-A20EF76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bffcc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b98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BD84-CC89-4B36-9C96-ED1D05CAA2E1}" type="slidenum">
              <a:rPr b="0" lang="en-NZ" sz="1200" spc="-1" strike="noStrike">
                <a:solidFill>
                  <a:srgbClr val="8cb98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bffcc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b98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959-DD79-4650-98A1-43F3D99A9829}" type="slidenum">
              <a:rPr b="0" lang="en-NZ" sz="1200" spc="-1" strike="noStrike">
                <a:solidFill>
                  <a:srgbClr val="8cb98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7785360" cy="1693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By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Left4 Projec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Kevin, Lok ,Wilson ,David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3" descr="map2.bmp"/>
          <p:cNvPicPr/>
          <p:nvPr/>
        </p:nvPicPr>
        <p:blipFill>
          <a:blip r:embed="rId2"/>
          <a:stretch/>
        </p:blipFill>
        <p:spPr>
          <a:xfrm>
            <a:off x="1224000" y="2035080"/>
            <a:ext cx="6696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virtual Catchment with have scenario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Users have to fix that scenario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E.g A spill of chemicals fell into the stream , how would you clean them? We will give them a preset tools to clean it up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ry and model it like some certain areas in Kaikorai valley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admin can add scenarios and modify th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used Ffilmation isometric flash engine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maps are stored in XML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Uses a Map editor to add additional area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Scenarios are stored in the database and loaded through xml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pic>
        <p:nvPicPr>
          <p:cNvPr id="114" name="Content Placeholder 5" descr="Virtual catchment..jpg"/>
          <p:cNvPicPr/>
          <p:nvPr/>
        </p:nvPicPr>
        <p:blipFill>
          <a:blip r:embed="rId2"/>
          <a:stretch/>
        </p:blipFill>
        <p:spPr>
          <a:xfrm>
            <a:off x="4572000" y="3857760"/>
            <a:ext cx="426096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News and Events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ORC Credit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ermissions for adding stuff into the Catchment or virtual map (Security reasons)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A discussion board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rivate messaging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ab navigation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3" descr="discussionboards.bmp"/>
          <p:cNvPicPr/>
          <p:nvPr/>
        </p:nvPicPr>
        <p:blipFill>
          <a:blip r:embed="rId2"/>
          <a:stretch/>
        </p:blipFill>
        <p:spPr>
          <a:xfrm>
            <a:off x="1494000" y="1600200"/>
            <a:ext cx="6156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are using  the Drupal CM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Drupal Module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One built of the yahoo API for the tab browsing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Calender and events module 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hp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CS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tabdesign.bmp"/>
          <p:cNvPicPr/>
          <p:nvPr/>
        </p:nvPicPr>
        <p:blipFill>
          <a:blip r:embed="rId2"/>
          <a:stretch/>
        </p:blipFill>
        <p:spPr>
          <a:xfrm>
            <a:off x="1243080" y="1600200"/>
            <a:ext cx="6657840" cy="470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 rot="833400">
            <a:off x="7013520" y="2127240"/>
            <a:ext cx="11736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hat we want to do for 3</a:t>
            </a:r>
            <a:r>
              <a:rPr b="0" lang="en-NZ" sz="2800" spc="-1" strike="noStrike" baseline="30000">
                <a:solidFill>
                  <a:srgbClr val="bffcc1"/>
                </a:solidFill>
                <a:latin typeface="Book Antiqua"/>
              </a:rPr>
              <a:t>rd</a:t>
            </a: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 iteration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Catchmen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bsite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Integrating  Virtual Catchment , Virtual Stream into the content management syst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" y="1600200"/>
          <a:ext cx="8229600" cy="2225520"/>
        </p:xfrm>
        <a:graphic>
          <a:graphicData uri="http://schemas.openxmlformats.org/drawingml/2006/table">
            <a:tbl>
              <a:tblPr/>
              <a:tblGrid>
                <a:gridCol w="1257480"/>
                <a:gridCol w="3429000"/>
                <a:gridCol w="3543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28.08.09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Website design and CSS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CMS Modules Developed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Virtual Catchmen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Model the Kaikorai Catchment.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Event/Scenario System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Sep – Oc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Users testing website  and VCS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Hosting of the Website and Database. We have to contact the ORC and they will organise a meeting with Intergen (A well known company) to host the website.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Testing by students  by Kaikorai Valley High school (Our client is a teacher at the school)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It’s a community web porta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get Kaikorai community more involve with cleaning up the Kaikorai stream.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provide a mapping utility for users too narrate  their ideas and how they feel about the stream through pictures and video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get people interacting with each other through  message board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teach users about the impact their daily lives have on the stream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2192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a place where people around Kaikorai community could come and talk about their stories in the Kaikorai Catchment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to have the main focus to be  around Kaikorai Catchment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to show how the community can interact with the strea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Content Management syst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 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o people can login and logout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aving there Catchment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Map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o people can see other people on the virtual Catchment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dvertise there business there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how people who support sustainability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Catchmen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A simulation on the Catchment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Situations “what could happen in the community”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Getting people involve in the environment 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Provide a place for people to communicate through pictures videos and discussion board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Monitor the river statu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Interactive virtual catchment to help user understand impact on the environment of the river.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Provide a way to share the virtual catchment individuals make with other users.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measure each users sustainable in their virtual catchment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upload and download videos and picture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inform latest events and news on the web page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ccount management provided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Have usergroup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282888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Requirement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Rewardable ORC credits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Give the site maintainers the ability to reward users actively helping the community and environment in Kaikorai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Virtual map to display specific areas in the Kaikorai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map on the website with links to specific areas. eg: schools, events etc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Virtual catchment repository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way for users to upload and download videos and pictures that are to do with the kaikorai valley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News and Events pag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Display a news and events page to inform users of important information and events coming up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virtual catchment recreation area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virtual catchment web application for users to change or add to the catchment and see the affect it may hav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private messaging system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llow users to message each other so they arn't publicly avaliabl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discussion board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Give the ability for users to communicate and talk about their ideas to help the Kaikorai Valley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different layers of information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The website will need a way to educate users on natural history, maori history, scientific data etc. Away from the community part of the sit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platform for administrator to add and configure the virtual map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website will be needed to create for admin use to change or add etc the information on virtual map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:\Documents and Settings\FIRMIDM1\Desktop\L4p_dfd1.jpg"/>
          <p:cNvPicPr/>
          <p:nvPr/>
        </p:nvPicPr>
        <p:blipFill>
          <a:blip r:embed="rId2"/>
          <a:stretch/>
        </p:blipFill>
        <p:spPr>
          <a:xfrm>
            <a:off x="0" y="1214280"/>
            <a:ext cx="5857920" cy="563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My Documents\My Received Files\diagram.bmp"/>
          <p:cNvPicPr/>
          <p:nvPr/>
        </p:nvPicPr>
        <p:blipFill>
          <a:blip r:embed="rId3"/>
          <a:stretch/>
        </p:blipFill>
        <p:spPr>
          <a:xfrm>
            <a:off x="5357880" y="2571840"/>
            <a:ext cx="40957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hat we used to create the Virtual Map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used  Google maps API ,XML ,PHP,MYSQL and Flash (action script 3)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is Application is based in flash and we use the Google maps API as a graphical background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then used Php so the user can enter data into the database.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n When loading up the Virtual Map we load data from the database using My Sql - PHP – XML to FLASH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23:57:32Z</dcterms:created>
  <dc:creator>FIRMIDM1</dc:creator>
  <dc:description/>
  <dc:language>en-US</dc:language>
  <cp:lastModifiedBy>FIRMIDM1</cp:lastModifiedBy>
  <dcterms:modified xsi:type="dcterms:W3CDTF">2009-08-10T05:15:41Z</dcterms:modified>
  <cp:revision>1492</cp:revision>
  <dc:subject/>
  <dc:title>Kaikorai Catchment</dc:title>
</cp:coreProperties>
</file>